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240C-5F1E-4DD4-932A-84153757C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3E78-A07D-4C7E-B87B-9A7702D0A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9EEAE-0003-4DEB-A209-FEE18F3F4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F67C-3D56-4721-850F-DB35E71CA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A5A8-1259-41AE-9B2C-0C4A66FD45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0391-0D98-434D-AFEE-84279C8B80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20FA-B560-46E9-8054-9016342C76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E247-285A-4417-AEFB-942D18C276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81F1-CE01-42A1-BA61-C54DBB25D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AE8E-382C-4A10-A0BA-F04292B600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1F9E-59BD-4C7C-A94B-63E74307BE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E67F5-2AE4-4D4E-8234-79D7E9B01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A281-60EA-4E44-B55F-6988CEE83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4248-6862-4C62-BEAB-F2C701CD35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A160-AF22-4204-8D99-F756C7FB28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321E-C2BA-4240-9FE9-20212F9C25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0EE0-22BA-49A0-BABB-BA5EA345B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19E7-8854-4E96-9257-DA4A3B9E8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D16E-1643-43FD-8858-1A5E7561F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49D0-FC8C-4D00-BBC1-B880EDAC68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26DE-6B1F-4627-B227-BB80066B0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73C8-98D0-4A98-9E0B-945867326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EFE6-43C8-4A7D-80CD-761B040CC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46BE-B376-4AE1-B47C-15DDEC056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672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666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5238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73E-26CB-42F9-848C-6B44F50D4EE7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ACB7-A95C-4A76-94D4-19B9C71A4F24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82640" indent="-285840"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1826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3" marL="16398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4" marL="2097000" indent="-228600">
              <a:spcBef>
                <a:spcPts val="400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5" marL="2097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6" marL="2097000" indent="-228600">
              <a:spcBef>
                <a:spcPts val="451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pugwash/www/WMD/wmd-his.html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hiro-tsuitokinenkan.go.jp/english/notice/photographs.html" TargetMode="External"/><Relationship Id="rId5" Type="http://schemas.openxmlformats.org/officeDocument/2006/relationships/hyperlink" Target="http://www.virginiawestern.edu/faculty/vwhansd/his112/11_ColdWar1.html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ww.corbisimages.com/images/67/4A202470-1BF3-43FE-9D65-EA5AA3FAA2B1/PL9391.jpg&amp;imgrefurl=http://www.corbisimages.com/Enlargement/PL9391.html&amp;usg=__5QW283FME2f2txkVaHAJLsgOjUM=&amp;h=480&amp;w=361&amp;sz=86&amp;hl=en&amp;start=25&amp;itbs=1&amp;tbnid=HtqX4FL5oIZ6VM:&amp;tbnh=129&amp;tbnw=97&amp;prev=/images%25253Fq%25253Dus%25252Bdeclares%25252Bwar%25252Bon%25252BJapan%252526start%25253D18%252526hl%25253Den%252526sa%25253DN%252526gbv%25253D2%252526ndsp%25253D18%252526tbs%2525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m/imgres?imgurl=http://docs.fdrlibrary.marist.edu/images/decwars.jpg&amp;imgrefurl=http://docs.fdrlibrary.marist.edu/tmirhdee.html&amp;usg=__XLWNKUVfAnbRZcBrTMBVJRfk6Yk=&amp;h=330&amp;w=266&amp;sz=36&amp;hl=en&amp;start=26&amp;itbs=1&amp;tbnid=8YlIKaj0Y95ziM:&amp;tbnh=119&amp;tbnw=96&amp;prev=/images%25253Fq%25253Dus%25252Bdeclares%25252Bwar%25252Bon%25252BJapan%252526start%25253D18%252526hl%25253Den%252526sa%25253DN%252526gbv%25253D2%252526ndsp%25253D18%252526tbs%25253Disch:1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google.com/imgres?imgurl=http://www.greatdreams.com/war/pearl-harbor-attack.jpg&amp;imgrefurl=http://www.greatdreams.com/war/pearl-harbor-three.htm&amp;usg=__6sVrtuLcce_9HWcnGKljbLeSfjU=&amp;h=341&amp;w=400&amp;sz=30&amp;hl=en&amp;start=4&amp;itbs=1&amp;tbnid=wUPyq3YdhJzAaM:&amp;tbnh=106&amp;tbnw=124&amp;prev=/images%25253Fq%25253Dpearl%25252Bharbor%252526hl%25253Den%252526gbv%25253D2%252526tbs%25253Disch:1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reich-chemistry.wikispaces.com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ftp.irtc.org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trumanlibrary.org/whistlestop/study_collections/bomb/large/index.php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gwu.edu/~nsarchiv/NSAEBB/NSAEBB162/nagasaki-2.jpg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hyperlink" Target="http://archives.gov/historical-docs/todays-doc/index.html?dod-date=511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52560" y="954000"/>
            <a:ext cx="7238880" cy="5904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The Atomic Bomb &amp;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800280" y="2984400"/>
            <a:ext cx="7467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How did the development of the atomic bomb and nuclear technology change the world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52920" y="65152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eb.mit.edu/pugwash/www/WMD/wmd-hi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0840" y="1476360"/>
            <a:ext cx="4241880" cy="450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ere the arguments against dropping the bomb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 numbers of civilian casual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for unfavorable public opinion in the US and other countr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to start a nuclear arms r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8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931000" y="1168560"/>
            <a:ext cx="2997000" cy="4271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788000" y="2984400"/>
            <a:ext cx="2450880" cy="331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9880" y="6032520"/>
            <a:ext cx="500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hiro-tsuitokinenkan.go.jp/english/notice/photograph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virginiawestern.edu/faculty/vwhansd/his112/11_ColdWar1.ht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Hiroshima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t">
            <a:normAutofit/>
          </a:bodyPr>
          <a:p>
            <a:pPr marL="266760" indent="-227160">
              <a:lnSpc>
                <a:spcPct val="8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sident Truman warned Japan that unless they surrendered, they could expect “a rain of ruin from the air” 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6, 1945 at 8:16 A.M., the B-29 bomber Enola Gay dropped an atomic bomb called “Little Boy” on Hiroshim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0,000 tons of TNT, killing 70-80 thousand people and destroying 62,000 buildings instantly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76320" y="990720"/>
            <a:ext cx="2798640" cy="3070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819520" cy="205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Nagasaki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at 10:47 AM, the B-29 bomber Bockscar dropped an atomic bomb called “Fat Man” on Nagasak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1,000 kilotons of TNT,  killing 70 thousand people instantly, eventually bringing the death toll to 210 thousan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September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Japan officially surrendered aboard the United States Battleship Missouri in Tokyo Bay ending World War I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323040" y="990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hanges to the World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s it necessary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stimated loss of lif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elp or hurt the futur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ternatives to the bom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ea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did you discover in your grou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gain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500,000 American soldi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nding the wa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lo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210,000 Japane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ss of input and productivity from all deceased individuals on both sid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9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495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102120" y="4267080"/>
            <a:ext cx="1698480" cy="1981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962520"/>
            <a:ext cx="131760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US and Japanese Conflic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419720"/>
            <a:ext cx="1160640" cy="1438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930’s – 1940’s Japan is expanding its empi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imposes oil embargo on Japan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8/1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apan bombs Pearl Harbo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7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Declares war on Japa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8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2933640" y="2666880"/>
            <a:ext cx="800280" cy="990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5315040" y="1905120"/>
            <a:ext cx="628560" cy="838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038480"/>
            <a:ext cx="2286000" cy="195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3000"/>
            <a:ext cx="869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ckground on the US and Japanese conflict leading to the use of the atomic bomb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How did the bomb lead to new lines of scientific inquiry and affect how people live and work?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209680" cy="2025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2133720" cy="278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22924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2690640" cy="2282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Background Knowledge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5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120680"/>
            <a:ext cx="43434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is radi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so special about uranium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29200" y="1019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067360" y="3632040"/>
            <a:ext cx="3276720" cy="28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396120"/>
            <a:ext cx="458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reich-chemistry.wikispaces.c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mei.gov.on.c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100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0240" y="1272960"/>
            <a:ext cx="4343400" cy="468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is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dioactive uranium atoms get to close togeth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u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ydrogen isotopes react to form hel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79360" y="11430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91960" y="4051440"/>
            <a:ext cx="3733920" cy="24843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5308560" y="5811840"/>
            <a:ext cx="3746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ftp.irtc.or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lancs.ac.u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Peaceful Uses of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1324080"/>
            <a:ext cx="4343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’s “green energy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It produces nuclear was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rrad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 allows food to stay fresh for a long t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There could be other side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5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275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agencies participated in the decis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ecutive Branch (Presiden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ientis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oint Chief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teorologis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3391200" cy="426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51040" y="1892160"/>
            <a:ext cx="3390840" cy="4089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392436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contributed to the selection of Hiroshima and Nagasaki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avorable weather cond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ustrial targ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prior bomb da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6070680"/>
            <a:ext cx="4788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Gill Sans"/>
              </a:rPr>
              <a:t>http://www.gwu.edu/~nsarchiv/NSAEBB/NSAEBB162/index.htm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9320" y="1133280"/>
            <a:ext cx="4343400" cy="21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apan (Oppenheime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ninhabited island (Chicago Metallurgical Lab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048120"/>
            <a:ext cx="4343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y an uninhabited islan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ublic opin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ent nuclear arms ra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btain multinational support before use against populated area 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749840" y="1128600"/>
            <a:ext cx="4241880" cy="5373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920" y="6527880"/>
            <a:ext cx="46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gwu.edu/~nsarchiv/NSAEBB/NSAEBB162/nagasaki-2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influenced the decision to drop the bomb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ious casualties during the war in the Pacifi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jected casualties for a land invasion of Japan and Kore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desperate measures taken by the Japanese milita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availability of a new weap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desire to wait an additional three months to begin the land invas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justify the expense of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1" name="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03040" y="3021120"/>
            <a:ext cx="4267440" cy="3444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03040" y="1130400"/>
            <a:ext cx="4526280" cy="1879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-296280" y="6527880"/>
            <a:ext cx="52581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archives.gov/historical-docs/todays-doc/index.html?dod-date=5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ile</dc:creator>
  <dc:description/>
  <cp:keywords/>
  <dc:language>en-US</dc:language>
  <cp:lastModifiedBy>Gina Bua</cp:lastModifiedBy>
  <dcterms:modified xsi:type="dcterms:W3CDTF">2010-08-17T07:02:13Z</dcterms:modified>
  <cp:revision>2</cp:revision>
  <dc:subject/>
  <dc:title>Hiroshima</dc:title>
</cp:coreProperties>
</file>